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547-ED02-4EF2-893D-1133A4B8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155-664C-4009-A9DD-938CA264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E40-254F-46D2-9BBC-31702A23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098-BF21-4DB0-91CB-7C9EFDD7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109-9A52-4880-8083-735C1148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4C1-E531-41A6-A89A-FF917516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A8A-4E16-4B4A-8D0F-3F2F1BEC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18AF-D866-4165-87A7-23FA29B9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DD5-7FD8-425C-90F1-710E1149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F36-DB24-47D3-9BFE-08957C3F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E0C-6B6C-4EA2-80B0-DDC4B06B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9AE-4531-48A2-B291-557F28D1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9C60-39B5-46D0-8BE0-97DF64D2682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Par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9CB4-469D-436F-A391-9CFD73D39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emmanuel.leray@ac-nantes.fr" TargetMode="External"/><Relationship Id="rId3" Type="http://schemas.openxmlformats.org/officeDocument/2006/relationships/hyperlink" Target="http://www.ac-nantes.fr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secourisme.info/imageweb/psc1_2.gif"/>
          <p:cNvPicPr/>
          <p:nvPr/>
        </p:nvPicPr>
        <p:blipFill>
          <a:blip r:embed="rId1"/>
          <a:stretch/>
        </p:blipFill>
        <p:spPr>
          <a:xfrm>
            <a:off x="755640" y="333360"/>
            <a:ext cx="2541600" cy="2736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2411280" y="2852640"/>
            <a:ext cx="41040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 u="sng">
                <a:solidFill>
                  <a:srgbClr val="000000"/>
                </a:solidFill>
                <a:uFillTx/>
                <a:latin typeface="Arial"/>
              </a:rPr>
              <a:t>Diaporama  PSC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2606400" y="5464080"/>
            <a:ext cx="2058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Bauhaus 93"/>
                <a:hlinkClick r:id="rId2"/>
              </a:rPr>
              <a:t>Emmanuel LE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"/>
          <p:cNvSpPr/>
          <p:nvPr/>
        </p:nvSpPr>
        <p:spPr>
          <a:xfrm>
            <a:off x="2693880" y="5094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auhaus 93"/>
              </a:rPr>
              <a:t>Réalisé 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http://lp-branly-85.ac-nantes.fr/images/040_logo_academi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5280" y="4940280"/>
            <a:ext cx="231264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secourisme.info/imageweb/psc1_2.gif"/>
          <p:cNvPicPr/>
          <p:nvPr/>
        </p:nvPicPr>
        <p:blipFill>
          <a:blip r:embed="rId1"/>
          <a:stretch/>
        </p:blipFill>
        <p:spPr>
          <a:xfrm>
            <a:off x="250920" y="260280"/>
            <a:ext cx="868320" cy="93672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6" descr=""/>
          <p:cNvPicPr/>
          <p:nvPr/>
        </p:nvPicPr>
        <p:blipFill>
          <a:blip r:embed="rId2"/>
          <a:stretch/>
        </p:blipFill>
        <p:spPr>
          <a:xfrm>
            <a:off x="1511280" y="-165240"/>
            <a:ext cx="5383080" cy="1792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465120" y="1476360"/>
            <a:ext cx="84247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Arial"/>
              </a:rPr>
              <a:t>À la fin de cette partie, je serai capable, face à une victime qui présente un traumatisme (autre que celui de la peau), d’en reconnaitre les signes et de réaliser les gestes de secours adaptés et nécessaires.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www.medicalorama.com/media/files/visuels/sport/sport_traumatisme_genou.jpg"/>
          <p:cNvPicPr/>
          <p:nvPr/>
        </p:nvPicPr>
        <p:blipFill>
          <a:blip r:embed="rId3"/>
          <a:stretch/>
        </p:blipFill>
        <p:spPr>
          <a:xfrm>
            <a:off x="7524720" y="371520"/>
            <a:ext cx="1076400" cy="712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1936800" y="6237360"/>
            <a:ext cx="56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e 7 : TRAUMATISME OI.7 / OS: 7.1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image_preview"/>
          <p:cNvPicPr/>
          <p:nvPr/>
        </p:nvPicPr>
        <p:blipFill>
          <a:blip r:embed="rId4"/>
          <a:stretch/>
        </p:blipFill>
        <p:spPr>
          <a:xfrm>
            <a:off x="250920" y="6093000"/>
            <a:ext cx="426960" cy="44280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10"/>
          <p:cNvSpPr/>
          <p:nvPr/>
        </p:nvSpPr>
        <p:spPr>
          <a:xfrm>
            <a:off x="8459640" y="63644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A932-A4FB-4C14-A4EA-1DB34127304F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i.istockimg.com/file_thumbview_approve/3060489/2/stock-photo-3060489-paperboard.jpg"/>
          <p:cNvPicPr/>
          <p:nvPr/>
        </p:nvPicPr>
        <p:blipFill>
          <a:blip r:embed="rId1"/>
          <a:stretch/>
        </p:blipFill>
        <p:spPr>
          <a:xfrm>
            <a:off x="7491240" y="228600"/>
            <a:ext cx="1616400" cy="19144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http://www.secourisme.info/imageweb/psc1_2.gif"/>
          <p:cNvPicPr/>
          <p:nvPr/>
        </p:nvPicPr>
        <p:blipFill>
          <a:blip r:embed="rId2"/>
          <a:stretch/>
        </p:blipFill>
        <p:spPr>
          <a:xfrm>
            <a:off x="250920" y="260280"/>
            <a:ext cx="868320" cy="936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1936800" y="6237360"/>
            <a:ext cx="56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e 7 : TRAUMATISME OI.7 / OS: 7.1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image_preview"/>
          <p:cNvPicPr/>
          <p:nvPr/>
        </p:nvPicPr>
        <p:blipFill>
          <a:blip r:embed="rId3"/>
          <a:stretch/>
        </p:blipFill>
        <p:spPr>
          <a:xfrm>
            <a:off x="250920" y="6093000"/>
            <a:ext cx="426960" cy="44280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10"/>
          <p:cNvSpPr/>
          <p:nvPr/>
        </p:nvSpPr>
        <p:spPr>
          <a:xfrm>
            <a:off x="8459640" y="63644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14FC-356D-4F26-A949-557A1BF635E0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4"/>
          <a:stretch/>
        </p:blipFill>
        <p:spPr>
          <a:xfrm>
            <a:off x="900000" y="1839960"/>
            <a:ext cx="7035840" cy="425304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11"/>
          <p:cNvSpPr/>
          <p:nvPr/>
        </p:nvSpPr>
        <p:spPr>
          <a:xfrm>
            <a:off x="1368360" y="13032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ysons les si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’elle peut en être la caus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la vous est-il arrivé ou bien à l’un de vos proch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risque la victim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feriez vou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http://i.istockimg.com/file_thumbview_approve/7293609/2/stock-photo-7293609-question-mark-key-i.jpg"/>
          <p:cNvPicPr/>
          <p:nvPr/>
        </p:nvPicPr>
        <p:blipFill>
          <a:blip r:embed="rId5"/>
          <a:stretch/>
        </p:blipFill>
        <p:spPr>
          <a:xfrm>
            <a:off x="1187280" y="981000"/>
            <a:ext cx="11527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ttp://www.secourisme.info/imageweb/psc1_2.gif"/>
          <p:cNvPicPr/>
          <p:nvPr/>
        </p:nvPicPr>
        <p:blipFill>
          <a:blip r:embed="rId1"/>
          <a:stretch/>
        </p:blipFill>
        <p:spPr>
          <a:xfrm>
            <a:off x="250920" y="260280"/>
            <a:ext cx="868320" cy="936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1936800" y="6237360"/>
            <a:ext cx="56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e 7 : TRAUMATISME OI.7 / OS: 7.1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image_preview"/>
          <p:cNvPicPr/>
          <p:nvPr/>
        </p:nvPicPr>
        <p:blipFill>
          <a:blip r:embed="rId2"/>
          <a:stretch/>
        </p:blipFill>
        <p:spPr>
          <a:xfrm>
            <a:off x="250920" y="6093000"/>
            <a:ext cx="426960" cy="442800"/>
          </a:xfrm>
          <a:prstGeom prst="rect">
            <a:avLst/>
          </a:prstGeom>
          <a:ln w="0">
            <a:noFill/>
          </a:ln>
        </p:spPr>
      </p:pic>
      <p:sp>
        <p:nvSpPr>
          <p:cNvPr id="70" name="ZoneTexte 10"/>
          <p:cNvSpPr/>
          <p:nvPr/>
        </p:nvSpPr>
        <p:spPr>
          <a:xfrm>
            <a:off x="8459640" y="63644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C263-5B4C-4E95-BAA6-2C56F87157FE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684360" y="142416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Assistez à une démonstration en la guidant ou en intervenan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Rectangle 1" descr=""/>
          <p:cNvPicPr/>
          <p:nvPr/>
        </p:nvPicPr>
        <p:blipFill>
          <a:blip r:embed="rId3"/>
          <a:stretch/>
        </p:blipFill>
        <p:spPr>
          <a:xfrm>
            <a:off x="3498840" y="438120"/>
            <a:ext cx="21160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http://www.secourisme.info/imageweb/psc1_2.gif"/>
          <p:cNvPicPr/>
          <p:nvPr/>
        </p:nvPicPr>
        <p:blipFill>
          <a:blip r:embed="rId1"/>
          <a:stretch/>
        </p:blipFill>
        <p:spPr>
          <a:xfrm>
            <a:off x="250920" y="260280"/>
            <a:ext cx="868320" cy="936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1936800" y="6237360"/>
            <a:ext cx="56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e 7 : TRAUMATISME OI.7 / OS: 7.1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image_preview"/>
          <p:cNvPicPr/>
          <p:nvPr/>
        </p:nvPicPr>
        <p:blipFill>
          <a:blip r:embed="rId2"/>
          <a:stretch/>
        </p:blipFill>
        <p:spPr>
          <a:xfrm>
            <a:off x="250920" y="6093000"/>
            <a:ext cx="426960" cy="442800"/>
          </a:xfrm>
          <a:prstGeom prst="rect">
            <a:avLst/>
          </a:prstGeom>
          <a:ln w="0">
            <a:noFill/>
          </a:ln>
        </p:spPr>
      </p:pic>
      <p:sp>
        <p:nvSpPr>
          <p:cNvPr id="78" name="ZoneTexte 10"/>
          <p:cNvSpPr/>
          <p:nvPr/>
        </p:nvSpPr>
        <p:spPr>
          <a:xfrm>
            <a:off x="8459640" y="63644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E9B3-165F-4744-B068-BB61053ED787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"/>
          <p:cNvSpPr/>
          <p:nvPr/>
        </p:nvSpPr>
        <p:spPr>
          <a:xfrm>
            <a:off x="1440000" y="1558800"/>
            <a:ext cx="6192720" cy="1068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terdire tout mou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e pas mobiliser la vic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lesremplacants.files.wordpress.com/2012/10/eduardo-blessure.jpg?w=463&amp;h=307"/>
          <p:cNvPicPr/>
          <p:nvPr/>
        </p:nvPicPr>
        <p:blipFill>
          <a:blip r:embed="rId3"/>
          <a:stretch/>
        </p:blipFill>
        <p:spPr>
          <a:xfrm>
            <a:off x="2370240" y="2637000"/>
            <a:ext cx="4314600" cy="282888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2"/>
          <p:cNvSpPr/>
          <p:nvPr/>
        </p:nvSpPr>
        <p:spPr>
          <a:xfrm>
            <a:off x="2370240" y="476280"/>
            <a:ext cx="59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n cas de traumatis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http://www.secourisme.info/imageweb/psc1_2.gif"/>
          <p:cNvPicPr/>
          <p:nvPr/>
        </p:nvPicPr>
        <p:blipFill>
          <a:blip r:embed="rId1"/>
          <a:stretch/>
        </p:blipFill>
        <p:spPr>
          <a:xfrm>
            <a:off x="250920" y="260280"/>
            <a:ext cx="868320" cy="936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1936800" y="6237360"/>
            <a:ext cx="56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e 7 : TRAUMATISME OI.7 / OS: 7.1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image_preview"/>
          <p:cNvPicPr/>
          <p:nvPr/>
        </p:nvPicPr>
        <p:blipFill>
          <a:blip r:embed="rId2"/>
          <a:stretch/>
        </p:blipFill>
        <p:spPr>
          <a:xfrm>
            <a:off x="250920" y="6093000"/>
            <a:ext cx="426960" cy="4428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10"/>
          <p:cNvSpPr/>
          <p:nvPr/>
        </p:nvSpPr>
        <p:spPr>
          <a:xfrm>
            <a:off x="8459640" y="63644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4A11-6F51-4809-A3E6-24B78CC7687E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www.fotosearch.fr/bthumb/CSP/CSP165/k1653725.jpg"/>
          <p:cNvPicPr/>
          <p:nvPr/>
        </p:nvPicPr>
        <p:blipFill>
          <a:blip r:embed="rId3"/>
          <a:stretch/>
        </p:blipFill>
        <p:spPr>
          <a:xfrm>
            <a:off x="7002360" y="312840"/>
            <a:ext cx="1619280" cy="10094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2670120" y="141300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TOUR D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460440" y="2136600"/>
            <a:ext cx="8504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lles est la conduite à tenir face à un traumatisme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 membre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 la nuque ou du 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u thorax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 l’abd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Rectangle 1" descr=""/>
          <p:cNvPicPr/>
          <p:nvPr/>
        </p:nvPicPr>
        <p:blipFill>
          <a:blip r:embed="rId4"/>
          <a:stretch/>
        </p:blipFill>
        <p:spPr>
          <a:xfrm>
            <a:off x="2548080" y="390600"/>
            <a:ext cx="375588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ttp://www.secourisme.info/imageweb/psc1_2.gif"/>
          <p:cNvPicPr/>
          <p:nvPr/>
        </p:nvPicPr>
        <p:blipFill>
          <a:blip r:embed="rId1"/>
          <a:stretch/>
        </p:blipFill>
        <p:spPr>
          <a:xfrm>
            <a:off x="250920" y="260280"/>
            <a:ext cx="868320" cy="936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1936800" y="6237360"/>
            <a:ext cx="56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e 7 : TRAUMATISME OI.7 / OS: 7.1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4" descr="image_preview"/>
          <p:cNvPicPr/>
          <p:nvPr/>
        </p:nvPicPr>
        <p:blipFill>
          <a:blip r:embed="rId2"/>
          <a:stretch/>
        </p:blipFill>
        <p:spPr>
          <a:xfrm>
            <a:off x="250920" y="6093000"/>
            <a:ext cx="426960" cy="44280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10"/>
          <p:cNvSpPr/>
          <p:nvPr/>
        </p:nvSpPr>
        <p:spPr>
          <a:xfrm>
            <a:off x="8459640" y="63644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A3C0-4BEF-4E1E-A427-47D7D3CE0149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1" descr=""/>
          <p:cNvPicPr/>
          <p:nvPr/>
        </p:nvPicPr>
        <p:blipFill>
          <a:blip r:embed="rId3"/>
          <a:stretch/>
        </p:blipFill>
        <p:spPr>
          <a:xfrm>
            <a:off x="2548080" y="390600"/>
            <a:ext cx="3755880" cy="62712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11" descr=""/>
          <p:cNvPicPr/>
          <p:nvPr/>
        </p:nvPicPr>
        <p:blipFill>
          <a:blip r:embed="rId4"/>
          <a:stretch/>
        </p:blipFill>
        <p:spPr>
          <a:xfrm>
            <a:off x="1590840" y="2487600"/>
            <a:ext cx="553536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3:33:20Z</dcterms:created>
  <dc:creator>Emmanuel Leray</dc:creator>
  <dc:description/>
  <dc:language>en-US</dc:language>
  <cp:lastModifiedBy>salle T3</cp:lastModifiedBy>
  <dcterms:modified xsi:type="dcterms:W3CDTF">2013-03-25T15:58:50Z</dcterms:modified>
  <cp:revision>232</cp:revision>
  <dc:subject/>
  <dc:title>Diapositive 1</dc:title>
</cp:coreProperties>
</file>